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5E95-66E0-4DF9-9BC6-D2CD201EA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5418-FC3E-4CEC-9307-287A6F08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BDD5-39D6-4F00-A58F-28AE2F98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9938-E723-4835-94DF-7B66B854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1555-9316-4922-A423-38730205C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3A04-9860-43E7-94CE-97A80E42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4698-35A3-4912-822A-EDE7BA9D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C36F-FBF4-491A-BE2A-3AA97F6F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C9CE-8FFD-4206-ABFB-81176793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03E0-E6C7-4F56-9EB1-6B96A89E9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B94-AC77-4553-87A4-B5338410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DA3-BEBE-4FB7-943F-5FE1D111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0B1-E394-4285-9B8F-566A68B3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86C-B782-491B-A353-70C05E25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13B-03BD-439D-985A-EBF4D9BA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D21-80E2-452C-8547-1456FCC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849-75E8-49F0-A88B-015855D2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C3C-EE0B-4F6E-A826-90E79E81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42A-5270-4354-A509-2E22D341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23F-EDC3-476D-A169-8FDF2AD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AC3-2833-4E4F-83F2-D1157754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797-9D3A-42F8-8678-5D7807ED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B58A-5E15-4D0F-894C-1FF36DF2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5714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ward to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800600" y="4038480"/>
            <a:ext cx="19303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772400" y="571644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80880" y="762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tex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31240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autho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rcRect l="7501" t="0" r="7501" b="0"/>
          <a:stretch/>
        </p:blipFill>
        <p:spPr>
          <a:xfrm>
            <a:off x="6172200" y="228600"/>
            <a:ext cx="194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r and appropriate targets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’s important in your fie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state it clea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at will it look like if students hit your targe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33520" y="19810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85800" y="3200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urate assessment is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r Assessment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Bias and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assessment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nd assessment requires 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Lit.: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3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4"/>
          <p:cNvSpPr/>
          <p:nvPr/>
        </p:nvSpPr>
        <p:spPr>
          <a:xfrm>
            <a:off x="4724280" y="1905120"/>
            <a:ext cx="2338560" cy="103320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5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4678920" y="19065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0"/>
          <p:cNvSpPr/>
          <p:nvPr/>
        </p:nvSpPr>
        <p:spPr>
          <a:xfrm flipH="1">
            <a:off x="46479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1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2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4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36"/>
          <p:cNvSpPr txBox="1"/>
          <p:nvPr/>
        </p:nvSpPr>
        <p:spPr>
          <a:xfrm>
            <a:off x="152280" y="228600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2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37"/>
          <p:cNvSpPr txBox="1"/>
          <p:nvPr/>
        </p:nvSpPr>
        <p:spPr>
          <a:xfrm>
            <a:off x="7238880" y="220968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39"/>
          <p:cNvSpPr txBox="1"/>
          <p:nvPr/>
        </p:nvSpPr>
        <p:spPr>
          <a:xfrm>
            <a:off x="1219320" y="3657600"/>
            <a:ext cx="17906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4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40"/>
          <p:cNvSpPr txBox="1"/>
          <p:nvPr/>
        </p:nvSpPr>
        <p:spPr>
          <a:xfrm>
            <a:off x="6095880" y="365760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5, 6, 7, 8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is the process of gathering evidence of student learning in order to inform instructional decision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iggins - 5th ed. page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195588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981080" y="3962520"/>
            <a:ext cx="30099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read “A Story of Assessment for Student Success” (p. 6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realistic?  Would it work in your school?  Why or why no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ust be authentically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ust set good targets and evalua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activities must match targets,  must be tuned to learner’s initial state and well sequenced there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ust communicate well to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must be accu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ed to take responsibility for their own lear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nging role o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ggins claims that schools have moved from rank ordering students to ensuring their achievement of a specified level of accomplish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f th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4900680" y="1919160"/>
            <a:ext cx="2338200" cy="103356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4854960" y="19209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H="1">
            <a:off x="48765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6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392040" y="647712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1.2, p. 20 –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-Involv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sess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the result of changes made in the mind of the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assessment must be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-leve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02:07Z</dcterms:created>
  <dc:creator>Mark Roddy</dc:creator>
  <dc:description/>
  <dc:language>en-US</dc:language>
  <cp:lastModifiedBy>Seattle University</cp:lastModifiedBy>
  <dcterms:modified xsi:type="dcterms:W3CDTF">2008-09-24T21:12:40Z</dcterms:modified>
  <cp:revision>14</cp:revision>
  <dc:subject/>
  <dc:title>Onward to Chapter 1</dc:title>
</cp:coreProperties>
</file>